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7656-3698-487B-B9BE-E3034E76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B7B9-7E49-4EE7-B097-E8258EB1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E5A-BEDB-47DA-814C-9EC3AAA5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F789-290E-4AF4-B5BB-DBC28C5D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434-212B-4A49-940E-71876507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09D-2148-4ADC-8824-34EB34CB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F24E-8F09-4E3E-84D4-2F4F831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7DD4E-35C2-47BE-8B9C-CAD27F98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159CC-FE86-4C6A-8594-BBBC6233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CC02C-9E91-492E-9234-709A082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BE3C2-6F40-4317-98B1-CBF034CA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31EC5-F8C3-4438-B220-AF0EA25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20656-122E-44F0-B879-74F2B50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A6423-8984-42D7-9815-7A188444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B6691-27C9-4497-907C-3D136781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34D5F-3F43-4C60-9555-CB69DFC0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B26-9D3B-4841-B135-CD3CD7BF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EB35C-BC1E-4A33-B041-F8FACEC4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545C8-E390-4FC5-819C-4AA0F7A9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F808C-FFE4-47B5-AABC-6740BA8A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0357B-FC9E-4E5B-8EEA-7E79E82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A7C0E-FB67-46CD-93B8-44FDF754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7E456-B8DB-4830-9FA0-CF6D519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538A2-E2E7-4F11-A2E2-C37B9E4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C4BB6-A0D2-417A-B7D0-3197C59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A0413-60C7-4742-BFA4-F6AC172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65331-F056-44CC-8DFF-D2E5D6BE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81B-8EAD-4335-A903-61DE348D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6CD2C-10CA-434B-9C7A-09D76367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A4BE4-34BF-4497-AE7D-AEF25D83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FE091-43B0-4695-A37E-12004301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BB300-61D0-4672-92D9-FFC88F7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3DF6B-5C35-4F7A-84A3-736D451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E29BC-B733-4B06-BEB9-9A28C8B4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99B9C-D073-4F34-BA86-CFF2EA81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509EE-D869-4900-BBAC-498390C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BB5C8-B400-416C-A1CC-CB7ADC7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174A3-5176-484B-AD82-1AD37D2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0FC5-2F97-4E35-A604-0FD68646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34806-57DA-4926-AC98-777A6CF0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F895C-F0D9-4F64-98C0-C64FF1EB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63BA7-82DB-49C8-A0C3-72EDAF1B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37051-188D-47D7-B4E1-1FD9C84C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9DD91-F41D-4AB3-9FC2-80FD2405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EC7CE-8324-45E8-97E4-5AE53F8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658E8-B0E4-4EE1-A031-DD5C168E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3C4D3-67FD-49D0-B7C5-F79DC17A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4FBD1-F90F-4AE2-8BAF-FFD354D0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89F34-ADCA-48A7-A6BF-A019FC2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EB4B-6887-44E6-8965-6D656F10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B5378-F2F9-49E0-B0A8-D1FB956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97335-EB47-4AA3-A763-FBDB9E56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F7B6A-2B0A-4244-8F88-0956721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BF9D2-BE23-4659-83AF-4FD41526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35496-4A2F-4D04-BF65-D048DB77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E3F8D-574D-4433-8813-5D2A48EB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E3691-CA05-4BF0-9B4F-0474DF5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5A087-3CCB-4DDE-B6C4-0525927E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361B5-62E8-4040-A81D-91B22BC7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4B7F9-7C57-41A0-8AD8-716BCE28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8F7-83A7-496C-B51A-25EE4F8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DA945-2F41-4EC4-93AF-BEE237D4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08C7B-EC69-429D-A3FA-078F627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E6596-8DE4-4E3A-8709-C5065F4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4BF1B-4849-4AA0-A0F2-39B45F0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3E5D9-92BA-48AB-A705-DA044A2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5CDE0-3A9D-4025-896B-ADF7383F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D3587-4074-489F-89AA-7C0BD228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F9A2A-A66F-4BE9-8D90-0BD6D857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3CCCF-A4E9-4EB8-87F5-BFE25796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E08D5-9DF7-4DC6-AEDD-C8A086A8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0C82-20CB-4943-80EC-BEB87CFA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819E3-CE40-4074-95A4-67818B19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966F4-D557-47E5-8D14-C6911DE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F581A-B4AF-47A3-85A1-4B408F22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3C20F-529A-42E2-A002-34CBBC06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D09A6-580B-4899-80B8-1C8B44B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C8B7A-0970-4A1E-8488-55DECFD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AB6F6-18AC-476E-8F49-AC9B073B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E0BEC-7AD4-4341-80F3-04753FCC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81867-DCE0-496E-B4E4-F2A7BFBA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DA56D-462A-48D2-852C-F2E3ADBB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36DD-532E-42E0-AAB5-6C133D25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2A710-6852-4ED9-9E7C-77BEC2E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253D9-4717-461C-ABB3-4686F9C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E9794-5BE2-4396-A300-2A999B3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7523C-F5D2-4AB5-995C-02FCB98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91D9B-021B-4C94-AEF5-50A4F76C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AB8FE-A22D-4457-9A7D-3286DF1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21D7B-0651-4298-9832-4448635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905A4-B23B-4C3C-B00E-E3C1BCB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0B85E-381A-471B-81ED-EEBE844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6BA3D-11D3-4F47-A1A3-5BAD831F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EC8B-EA20-4C4A-83D8-D778010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9EDD2-0290-454F-98A5-6FB85EF0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4EA0-9EE1-4C08-BFC0-9F10D92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700-16D2-46BE-BC5B-D7C99AB2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974-E90B-4615-9180-FD2C2BC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D3F5-4811-44E5-B5AB-02725F8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A05-6901-4A57-927E-56EE3207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EA86-C206-4091-B84D-2F9F0B67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5B6D-B508-4057-BFB1-EE0AA47F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E742-0F3B-4097-8A09-6B5E4AC1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32DD-334F-4B6E-B8B6-672E878B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4B7FB-CEC0-433D-86C7-5FF3C44C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128E-75D3-4F27-A10C-A511F3C2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E816-2AFD-4D1E-A980-05AC6FA4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35A-22DA-4D93-9AFE-2A3A703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A76D-E4C0-4492-A852-CF7D53E6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C262-DD5E-4256-95C7-C7C4F03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9C73-2B8B-4E9E-9E00-5DF0590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7DFF-7B9B-4EE5-B1FE-8893DE0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0127-47AF-4A69-A67C-699121D6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6454-7EDB-4C63-B919-747C8E44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557C-0DA6-4A15-B146-27452B35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95DF-9E7B-454B-B530-8923EAFD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69F1-7CC1-4738-A2B1-73843DDA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6DF5-7F3F-4215-9ECC-2F09FD91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DE8-74BE-47CB-AE70-5B4235B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AF67-6918-4547-A716-AC982B92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FD6B3-017D-4863-B647-8880BF50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68C7-94DE-4468-BAD7-781363A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7F1A-2A7C-4768-B392-B189249B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3017-0611-4798-AB4D-60F1F36F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07E9-70BD-4770-B5E6-1B88690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4C0E-F77A-4FB9-A99C-3203278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4D4A-6132-48E6-92D8-3D0B1EA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709E-8139-4977-AD81-BEFB9D9E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5B53C-946E-424C-9D11-1D432B05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A41-BBAF-4BAF-87FF-F3B2E525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8BE5E-6A79-4734-9AA2-E61D3055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9A81-25F9-46E8-8B06-2EE81587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E604-1E50-41A1-A188-4868CE2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D17A-1208-453D-9B13-C69C88F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7DD2-5268-49CF-A37B-4DB4587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45BC1-1339-4227-891A-1EBFEAD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98F5-A7D5-4E80-B712-2C3EE34F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30C0-B701-4B33-AB5A-ED2584F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B9C3-055D-45B3-B124-95A5DD2C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38C1-7CBD-40DB-879C-0DD51DEB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4FC-040B-4B35-AF28-DD1A9EDB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355B3-51CE-411D-A87B-4ACA5785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F1BA-8D6F-4A66-B6CA-B3ACDA76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D871-F170-4A53-97B9-A02D0B58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9CFA1-85A4-4430-A019-E2ADCCB8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A2AC-D6C6-4250-A0DE-D000EDC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FD047-D534-4A7F-B3E4-E538FC22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E0F3F-9D11-455A-8EE2-0043698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56F9-9532-4ADD-8081-C4DE70F2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BF4F7-1AB4-4BEF-9F7A-30A1754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ED14-0E6E-4918-BEF1-15FC73E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528-8AF3-4154-90BF-A550C78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55519-A8B7-4D58-8506-84410914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9C0E8-B684-4096-A64D-66DA8D58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3B37-9DD2-4D23-8C58-CB3A9AF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AC7A-D417-47F0-B246-5410BBD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8E14-3A82-460A-BF46-5125A6A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A1DCB-F7A2-44E9-8DDD-B49D4562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F1074-F6FC-419E-9BDF-0F16BACA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3525-9424-4D50-8DFD-837BA1DB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9230-5F70-41B6-B784-344D98C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483FB-F874-4633-A28F-A5EE1E08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444-36E2-43A8-87AE-11CF11F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9E33-BE65-4CB4-AA9E-32B5590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6C31-E54D-42D6-A9D3-236EE39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6D77-82FC-41FA-847D-432E446F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6E69-1FC5-4561-ACB0-1B06735A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5FBB7-9A76-462D-A29E-AE428853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ACEF4-F38C-4B67-A1BD-860B5286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C980-3344-4B2A-A22A-BB5ED64D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AC4C0-7531-44AE-9305-213017BD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6DF1-4CE5-422E-8C74-C3334BB6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C78A4-A13F-4BC4-AEEF-491AD3B9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8D0-AA9A-4190-9848-27E30D2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AE6E0-7CB1-4FB7-86C2-E3422641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F99BB-9AEE-432D-8C39-3244083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90CF4-D84F-49A2-8E9C-33D9AA9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2353-A8BD-4806-8695-E2CC183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761EF-3659-440D-8F00-752615D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8ED8A-88B4-46C0-9C19-A4356B1B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2D3B-CA35-4D07-84D4-A9DAD648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0CCDE-E603-49D7-A6FE-A45FE6EE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F173A-24C0-4B84-82C9-B4CA69C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BE93B-2D02-4187-825B-0F65C28D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EA8-991B-4E76-8AA5-4DE6B2F1DE7D}" type="datetime2">
              <a:rPr b="0" lang="ro-RO" sz="1200" spc="-1" strike="noStrike">
                <a:solidFill>
                  <a:srgbClr val="4f261e"/>
                </a:solidFill>
                <a:latin typeface="Garamond"/>
              </a:rPr>
              <a:t>vineri 31 iuli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Prof. Lacramioara Tufes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6D63-A91E-44C4-A456-608F9F14A23D}" type="datetime12">
              <a:rPr b="0" lang="ro-RO" sz="1200" spc="-1" strike="noStrike">
                <a:solidFill>
                  <a:srgbClr val="4f261e"/>
                </a:solidFill>
                <a:latin typeface="Garamond"/>
              </a:rPr>
              <a:t>04:21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8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31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3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84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885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908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28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29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2A50-516B-4BB3-8980-2BAD88A90B3F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82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983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006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5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3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4AF-EE4D-447C-8E84-9C9345724826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9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0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081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104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3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3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3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1723-161A-40DF-96C8-D0EE2702E39E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7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78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179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202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1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37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38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39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AC3-564C-49BF-B906-C283E3DDF65C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5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76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277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300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9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napoi  Despre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40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41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42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4E0-6D44-46DC-8333-F47BBB412E19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3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74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375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7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398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7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Inainte  Sumar  Inapoi  Despre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43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44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45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87A0-11CE-4145-B376-7C54A7261F6D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0" name="Group 29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01" name="Line 30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3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4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5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6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7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8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9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0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1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2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3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4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45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6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7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48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9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50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51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52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24" name="Line 53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4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55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6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57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8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60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61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62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3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4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5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66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7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8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9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0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1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2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73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4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5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6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7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8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79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80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1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Line 82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3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e9dcb9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e9dcb9"/>
                </a:solidFill>
                <a:latin typeface="Tahoma"/>
              </a:rPr>
              <a:t>  Inapoi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Despre</a:t>
            </a:r>
            <a:r>
              <a:rPr b="1" lang="en-US" sz="1000" spc="-1" strike="noStrike">
                <a:solidFill>
                  <a:srgbClr val="e9dcb9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8105-407C-4D70-861E-5DA23485AD17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8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99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22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7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8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6E8-B060-4582-8E52-26635246F44E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6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97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320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0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1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684-F562-40E3-A611-F57F952A1B8C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94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395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418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13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14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8A1B-0CCF-4ED0-9892-285FC97862F5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92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493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516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16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17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A418-4089-40B0-B2DC-8F4F455D25F4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9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0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591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614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9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20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CF5-95B7-424C-B9D6-F80E93FCE098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7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88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689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712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22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23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9D55-FCA1-4EBF-A4CF-D2AFCAFCD056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5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86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787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810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25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26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3AD-B1C8-4047-A17B-B70EE861F5CA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Picture 5" descr="Picture1.png"/>
          <p:cNvPicPr/>
          <p:nvPr/>
        </p:nvPicPr>
        <p:blipFill>
          <a:blip r:embed="rId1"/>
          <a:stretch/>
        </p:blipFill>
        <p:spPr>
          <a:xfrm>
            <a:off x="1828800" y="4343400"/>
            <a:ext cx="4857840" cy="669960"/>
          </a:xfrm>
          <a:prstGeom prst="rect">
            <a:avLst/>
          </a:prstGeom>
          <a:ln w="0">
            <a:noFill/>
          </a:ln>
        </p:spPr>
      </p:pic>
      <p:pic>
        <p:nvPicPr>
          <p:cNvPr id="1478" name="Rectangle 6" descr=""/>
          <p:cNvPicPr/>
          <p:nvPr/>
        </p:nvPicPr>
        <p:blipFill>
          <a:blip r:embed="rId2"/>
          <a:stretch/>
        </p:blipFill>
        <p:spPr>
          <a:xfrm>
            <a:off x="2414520" y="1432080"/>
            <a:ext cx="532764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4f261e"/>
                </a:solidFill>
                <a:latin typeface="Black Chancery"/>
              </a:rPr>
              <a:t>Editorul de text</a:t>
            </a:r>
            <a:r>
              <a:rPr b="0" lang="ro-RO" sz="4800" spc="-1" strike="noStrike">
                <a:solidFill>
                  <a:srgbClr val="4f261e"/>
                </a:solidFill>
                <a:latin typeface="Black Chancery"/>
              </a:rPr>
              <a:t> </a:t>
            </a:r>
            <a:br>
              <a:rPr sz="4800"/>
            </a:br>
            <a:r>
              <a:rPr b="0" lang="ro-RO" sz="4800" spc="-1" strike="noStrike">
                <a:solidFill>
                  <a:srgbClr val="4f261e"/>
                </a:solidFill>
                <a:latin typeface="Black Chancery"/>
              </a:rPr>
              <a:t>                 Microsoft Word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4572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261e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Lansarea aplicaţiei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261e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Elementele interfeţei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261e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Deplasarea</a:t>
            </a:r>
            <a:r>
              <a:rPr b="0" lang="en-US" sz="2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4f261e"/>
                </a:solidFill>
                <a:latin typeface="Times New Roman"/>
              </a:rPr>
              <a:t>i</a:t>
            </a: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 salvarea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schiderea unui document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481" name="Picture 18" descr="BD00028_"/>
          <p:cNvPicPr/>
          <p:nvPr/>
        </p:nvPicPr>
        <p:blipFill>
          <a:blip r:embed="rId1"/>
          <a:stretch/>
        </p:blipFill>
        <p:spPr>
          <a:xfrm>
            <a:off x="7315200" y="34290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482" name="Text Box 6"/>
          <p:cNvSpPr/>
          <p:nvPr/>
        </p:nvSpPr>
        <p:spPr>
          <a:xfrm>
            <a:off x="7924680" y="5791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66"/>
                </a:solidFill>
                <a:latin typeface="Times New Roman"/>
              </a:rPr>
              <a:t>@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7"/>
          <p:cNvSpPr/>
          <p:nvPr/>
        </p:nvSpPr>
        <p:spPr>
          <a:xfrm>
            <a:off x="3352680" y="64008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8"/>
          <p:cNvSpPr/>
          <p:nvPr/>
        </p:nvSpPr>
        <p:spPr>
          <a:xfrm>
            <a:off x="586728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51040" y="315720"/>
            <a:ext cx="829296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4f261e"/>
                </a:solidFill>
                <a:latin typeface="Allegro BT"/>
              </a:rPr>
              <a:t>Lansarea aplicaţiei şi închiderea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346040" y="1600200"/>
            <a:ext cx="383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Lansarea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aplicaţiei se face: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1. clic pe butonul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START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, clic pe </a:t>
            </a:r>
            <a:r>
              <a:rPr b="0" lang="en-US" sz="2000" spc="-1" strike="noStrike">
                <a:solidFill>
                  <a:srgbClr val="909082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Programs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clic pe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Microsoft</a:t>
            </a: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Word</a:t>
            </a: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 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2. clic pe butonul       din bara de aplicaţii 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3. dublu clic pe scurtătură</a:t>
            </a: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Închiderea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se fac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- cu butonul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Close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            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- cu tastele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Alt </a:t>
            </a:r>
            <a:r>
              <a:rPr b="0" lang="ro-RO" sz="2000" spc="-1" strike="noStrike">
                <a:solidFill>
                  <a:srgbClr val="909082"/>
                </a:solidFill>
                <a:latin typeface="Times New Roman"/>
              </a:rPr>
              <a:t>+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F4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, 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- din meniul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er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se alege comanda 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e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r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487" name="Picture 12" descr="word"/>
          <p:cNvPicPr/>
          <p:nvPr/>
        </p:nvPicPr>
        <p:blipFill>
          <a:blip r:embed="rId1"/>
          <a:stretch/>
        </p:blipFill>
        <p:spPr>
          <a:xfrm>
            <a:off x="7315200" y="2514600"/>
            <a:ext cx="1123920" cy="19810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4" descr="wordbun"/>
          <p:cNvPicPr/>
          <p:nvPr/>
        </p:nvPicPr>
        <p:blipFill>
          <a:blip r:embed="rId2"/>
          <a:stretch/>
        </p:blipFill>
        <p:spPr>
          <a:xfrm>
            <a:off x="3454560" y="2806560"/>
            <a:ext cx="461880" cy="481320"/>
          </a:xfrm>
          <a:prstGeom prst="rect">
            <a:avLst/>
          </a:prstGeom>
          <a:ln w="0">
            <a:noFill/>
          </a:ln>
        </p:spPr>
      </p:pic>
      <p:sp>
        <p:nvSpPr>
          <p:cNvPr id="1489" name="Line 9"/>
          <p:cNvSpPr/>
          <p:nvPr/>
        </p:nvSpPr>
        <p:spPr>
          <a:xfrm>
            <a:off x="4863960" y="2590920"/>
            <a:ext cx="2438640" cy="1143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10"/>
          <p:cNvSpPr/>
          <p:nvPr/>
        </p:nvSpPr>
        <p:spPr>
          <a:xfrm>
            <a:off x="914400" y="62485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11"/>
          <p:cNvSpPr/>
          <p:nvPr/>
        </p:nvSpPr>
        <p:spPr>
          <a:xfrm>
            <a:off x="1371600" y="5791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6" descr="sortword"/>
          <p:cNvPicPr/>
          <p:nvPr/>
        </p:nvPicPr>
        <p:blipFill>
          <a:blip r:embed="rId3"/>
          <a:stretch/>
        </p:blipFill>
        <p:spPr>
          <a:xfrm>
            <a:off x="4419720" y="3429000"/>
            <a:ext cx="533160" cy="4636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7" descr="stop"/>
          <p:cNvPicPr/>
          <p:nvPr/>
        </p:nvPicPr>
        <p:blipFill>
          <a:blip r:embed="rId4"/>
          <a:stretch/>
        </p:blipFill>
        <p:spPr>
          <a:xfrm>
            <a:off x="3800520" y="4127400"/>
            <a:ext cx="27612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Picture 5" descr="wordtot"/>
          <p:cNvPicPr/>
          <p:nvPr/>
        </p:nvPicPr>
        <p:blipFill>
          <a:blip r:embed="rId1"/>
          <a:stretch/>
        </p:blipFill>
        <p:spPr>
          <a:xfrm>
            <a:off x="1828800" y="1371600"/>
            <a:ext cx="6400800" cy="4908600"/>
          </a:xfrm>
          <a:prstGeom prst="rect">
            <a:avLst/>
          </a:prstGeom>
          <a:ln w="0">
            <a:noFill/>
          </a:ln>
        </p:spPr>
      </p:pic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4f261e"/>
                </a:solidFill>
                <a:latin typeface="Allegro BT"/>
              </a:rPr>
              <a:t>Elementele interfeţei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96" name="Rectangle 7"/>
          <p:cNvSpPr/>
          <p:nvPr/>
        </p:nvSpPr>
        <p:spPr>
          <a:xfrm>
            <a:off x="3657600" y="685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a de tit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8"/>
          <p:cNvSpPr/>
          <p:nvPr/>
        </p:nvSpPr>
        <p:spPr>
          <a:xfrm flipV="1" rot="10800000">
            <a:off x="5486400" y="714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uton de restaur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9"/>
          <p:cNvSpPr/>
          <p:nvPr/>
        </p:nvSpPr>
        <p:spPr>
          <a:xfrm>
            <a:off x="8229600" y="68580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uton de închid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1"/>
          <p:cNvSpPr/>
          <p:nvPr/>
        </p:nvSpPr>
        <p:spPr>
          <a:xfrm>
            <a:off x="914400" y="6858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a de meni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2"/>
          <p:cNvSpPr/>
          <p:nvPr/>
        </p:nvSpPr>
        <p:spPr>
          <a:xfrm>
            <a:off x="1828800" y="251460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a de instru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3"/>
          <p:cNvSpPr/>
          <p:nvPr/>
        </p:nvSpPr>
        <p:spPr>
          <a:xfrm>
            <a:off x="7285320" y="4278240"/>
            <a:ext cx="15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 de deru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14"/>
          <p:cNvSpPr/>
          <p:nvPr/>
        </p:nvSpPr>
        <p:spPr>
          <a:xfrm>
            <a:off x="3621960" y="342900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spaţiul de luc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15"/>
          <p:cNvSpPr/>
          <p:nvPr/>
        </p:nvSpPr>
        <p:spPr>
          <a:xfrm>
            <a:off x="1115640" y="48769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e de st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16"/>
          <p:cNvSpPr/>
          <p:nvPr/>
        </p:nvSpPr>
        <p:spPr>
          <a:xfrm>
            <a:off x="1828800" y="5257800"/>
            <a:ext cx="914400" cy="7318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19"/>
          <p:cNvSpPr/>
          <p:nvPr/>
        </p:nvSpPr>
        <p:spPr>
          <a:xfrm flipV="1">
            <a:off x="2900880" y="1776240"/>
            <a:ext cx="1267560" cy="1083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20"/>
          <p:cNvSpPr/>
          <p:nvPr/>
        </p:nvSpPr>
        <p:spPr>
          <a:xfrm>
            <a:off x="1721520" y="857160"/>
            <a:ext cx="854280" cy="7178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22"/>
          <p:cNvSpPr/>
          <p:nvPr/>
        </p:nvSpPr>
        <p:spPr>
          <a:xfrm flipH="1">
            <a:off x="3522600" y="792000"/>
            <a:ext cx="388800" cy="646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27"/>
          <p:cNvSpPr/>
          <p:nvPr/>
        </p:nvSpPr>
        <p:spPr>
          <a:xfrm flipH="1">
            <a:off x="5258880" y="4650840"/>
            <a:ext cx="2283840" cy="1213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28"/>
          <p:cNvSpPr/>
          <p:nvPr/>
        </p:nvSpPr>
        <p:spPr>
          <a:xfrm flipH="1" flipV="1">
            <a:off x="6859440" y="3561480"/>
            <a:ext cx="775800" cy="77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30"/>
          <p:cNvSpPr/>
          <p:nvPr/>
        </p:nvSpPr>
        <p:spPr>
          <a:xfrm>
            <a:off x="8166240" y="1244520"/>
            <a:ext cx="952200" cy="216000"/>
          </a:xfrm>
          <a:prstGeom prst="pie">
            <a:avLst/>
          </a:prstGeom>
          <a:noFill/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31"/>
          <p:cNvSpPr/>
          <p:nvPr/>
        </p:nvSpPr>
        <p:spPr>
          <a:xfrm>
            <a:off x="8039160" y="1511280"/>
            <a:ext cx="546120" cy="711360"/>
          </a:xfrm>
          <a:prstGeom prst="pie">
            <a:avLst/>
          </a:prstGeom>
          <a:noFill/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32"/>
          <p:cNvSpPr/>
          <p:nvPr/>
        </p:nvSpPr>
        <p:spPr>
          <a:xfrm>
            <a:off x="7023240" y="1003320"/>
            <a:ext cx="787320" cy="469800"/>
          </a:xfrm>
          <a:prstGeom prst="pie">
            <a:avLst/>
          </a:prstGeom>
          <a:noFill/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10"/>
          <p:cNvSpPr/>
          <p:nvPr/>
        </p:nvSpPr>
        <p:spPr>
          <a:xfrm>
            <a:off x="8039160" y="2273400"/>
            <a:ext cx="104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uton de minimiz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657600" y="6858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4f261e"/>
                </a:solidFill>
                <a:latin typeface="Allegro BT"/>
              </a:rPr>
              <a:t>Deplasarea şi salvarea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155600" y="311112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61e"/>
                </a:solidFill>
                <a:latin typeface="Times New Roman"/>
              </a:rPr>
              <a:t>Salvarea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unui document nou  se poate face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din meniul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Fi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ier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se alege comanda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alva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sau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Salvare Ca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sau se apasă butonul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a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lva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la închiderea documentului se alege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Da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Times New Roman"/>
              </a:rPr>
              <a:t>   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pentru a salva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Pe ecran apare caseta de dialog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Salvare Ca</a:t>
            </a:r>
            <a:r>
              <a:rPr b="0" lang="ro-RO" sz="1800" spc="-1" strike="noStrike">
                <a:solidFill>
                  <a:srgbClr val="909082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şi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facem paşii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stabilim locul unde dorim să salvăm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a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lvare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scriem numele atribuit fişierului în caseta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Nume fi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ier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facem clic pe butonul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alva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516" name="Picture 20" descr="1"/>
          <p:cNvPicPr/>
          <p:nvPr/>
        </p:nvPicPr>
        <p:blipFill>
          <a:blip r:embed="rId1"/>
          <a:stretch/>
        </p:blipFill>
        <p:spPr>
          <a:xfrm>
            <a:off x="5486400" y="1795320"/>
            <a:ext cx="3044880" cy="198144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5" descr=""/>
          <p:cNvPicPr/>
          <p:nvPr/>
        </p:nvPicPr>
        <p:blipFill>
          <a:blip r:embed="rId2"/>
          <a:stretch/>
        </p:blipFill>
        <p:spPr>
          <a:xfrm>
            <a:off x="4267080" y="3908520"/>
            <a:ext cx="473040" cy="434880"/>
          </a:xfrm>
          <a:prstGeom prst="rect">
            <a:avLst/>
          </a:prstGeom>
          <a:ln w="0">
            <a:noFill/>
          </a:ln>
        </p:spPr>
      </p:pic>
      <p:sp>
        <p:nvSpPr>
          <p:cNvPr id="1518" name="Rectangle 7"/>
          <p:cNvSpPr/>
          <p:nvPr/>
        </p:nvSpPr>
        <p:spPr>
          <a:xfrm>
            <a:off x="914400" y="16002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09082"/>
                </a:solidFill>
                <a:latin typeface="Times New Roman"/>
              </a:rPr>
              <a:t>   </a:t>
            </a:r>
            <a:r>
              <a:rPr b="1" lang="ro-RO" sz="1800" spc="-1" strike="noStrike">
                <a:solidFill>
                  <a:srgbClr val="4f261e"/>
                </a:solidFill>
                <a:latin typeface="Times New Roman"/>
              </a:rPr>
              <a:t>Deplasare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în text se face cu tastele directoare, tastele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Hom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En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PageUp</a:t>
            </a:r>
            <a:r>
              <a:rPr b="0" lang="ro-RO" sz="1800" spc="-1" strike="noStrike">
                <a:solidFill>
                  <a:srgbClr val="909082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PageDow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sau combinaţii de t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8"/>
          <p:cNvSpPr/>
          <p:nvPr/>
        </p:nvSpPr>
        <p:spPr>
          <a:xfrm flipV="1">
            <a:off x="6401160" y="3428280"/>
            <a:ext cx="913680" cy="2744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Deschiderea unui document Word existent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383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61e"/>
                </a:solidFill>
                <a:latin typeface="Garamond"/>
              </a:rPr>
              <a:t>Deschiderea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unui document se poate face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Garamond"/>
              </a:rPr>
              <a:t>-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din meniul File se alege comanda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Deschidere (Open)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Garamond"/>
              </a:rPr>
              <a:t>-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se apasă butonul din bara de instrumente standard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- se apasă simultan tastele </a:t>
            </a:r>
            <a:r>
              <a:rPr b="1" lang="ro-RO" sz="1800" spc="-1" strike="noStrike">
                <a:solidFill>
                  <a:srgbClr val="909082"/>
                </a:solidFill>
                <a:latin typeface="Garamond"/>
              </a:rPr>
              <a:t>Ctrl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şi </a:t>
            </a:r>
            <a:r>
              <a:rPr b="1" lang="ro-RO" sz="1800" spc="-1" strike="noStrike">
                <a:solidFill>
                  <a:srgbClr val="909082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Din caseta de dialog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Deschidere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care rezultă se stabileşte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- locul unde este fişierul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Privire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  <a:ea typeface="Arial"/>
              </a:rPr>
              <a:t>î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n</a:t>
            </a:r>
            <a:r>
              <a:rPr b="1" lang="ro-RO" sz="1800" spc="-1" strike="noStrike">
                <a:solidFill>
                  <a:srgbClr val="909082"/>
                </a:solidFill>
                <a:latin typeface="Garamond"/>
              </a:rPr>
              <a:t>,</a:t>
            </a:r>
            <a:r>
              <a:rPr b="0" lang="ro-RO" sz="1800" spc="-1" strike="noStrike">
                <a:solidFill>
                  <a:srgbClr val="909082"/>
                </a:solidFill>
                <a:latin typeface="Garamond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alegem numele din listă sau se scrie în caseta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Nume fi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  <a:ea typeface="Arial"/>
              </a:rPr>
              <a:t>şier</a:t>
            </a:r>
            <a:r>
              <a:rPr b="0" lang="ro-RO" sz="1800" spc="-1" strike="noStrike">
                <a:solidFill>
                  <a:srgbClr val="909082"/>
                </a:solidFill>
                <a:latin typeface="Garamond"/>
              </a:rPr>
              <a:t>, 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se apasă butonul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Deschide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522" name="Picture 7" descr=""/>
          <p:cNvPicPr/>
          <p:nvPr/>
        </p:nvPicPr>
        <p:blipFill>
          <a:blip r:embed="rId1"/>
          <a:stretch/>
        </p:blipFill>
        <p:spPr>
          <a:xfrm>
            <a:off x="4076640" y="2895480"/>
            <a:ext cx="503280" cy="48276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8" descr="2"/>
          <p:cNvPicPr/>
          <p:nvPr/>
        </p:nvPicPr>
        <p:blipFill>
          <a:blip r:embed="rId2"/>
          <a:stretch/>
        </p:blipFill>
        <p:spPr>
          <a:xfrm>
            <a:off x="5486400" y="2514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04840" y="251424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61e"/>
                </a:solidFill>
                <a:latin typeface="Thickhead"/>
              </a:rPr>
              <a:t>Perseverand vei ajunge la rezult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Despr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Prof. L. Tufescu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f261e"/>
                </a:solidFill>
                <a:latin typeface="Garamond"/>
              </a:rPr>
              <a:t>Grup Scolar Tehnic de Transporturi Cai Ferate Iasi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Gradul didactic II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1-04T17:05:54Z</dcterms:created>
  <dc:creator>Odina Julia</dc:creator>
  <dc:description/>
  <dc:language>en-US</dc:language>
  <cp:lastModifiedBy>Lacra</cp:lastModifiedBy>
  <dcterms:modified xsi:type="dcterms:W3CDTF">2010-05-17T23:12:51Z</dcterms:modified>
  <cp:revision>131</cp:revision>
  <dc:subject/>
  <dc:title>Word</dc:title>
</cp:coreProperties>
</file>